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ED4F-8954-4763-ADC3-92CFCCB448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F7E8-C7DF-4031-9673-C9FA33455D19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3D2E-5638-4494-8A0C-86E37FA46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2BE6-A45D-4B7D-A698-85BC57C6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E6EF-3741-4047-A6C4-420AA0147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19FA-3262-4094-B0FF-8A3DACFEC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A840-F266-428B-84B7-2AC88F6CF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120F-1A02-473F-B55A-E29B05F6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742F-3F55-45B2-BF61-3FB3DFFE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3A10-1E8D-4571-A557-B194AA21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F02C-AA69-4AFE-AFF5-76982243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2371-A1E2-4660-AA28-4A2A08E3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C463-D6C2-41FE-B615-2405E3B6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0151-C92E-42AF-B3D0-B3AEB060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705D-83D9-4FF8-AC95-DBA7FA19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C620-5F76-4455-8E52-5246AF41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99E4-54E6-4A41-9607-A487A9F1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0DFB-1292-4387-ACFE-A522CAC4D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A7E6-3D0F-496B-8374-495AB209E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180E9-0A06-41A4-BFAB-8E025B974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CA4FF-9AFD-4B8B-9040-0C6C7BB0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34A89-ED26-41C7-8755-E806B11B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1ECC5-9AFA-4943-8FC4-15EEC2BB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6FD4A-3643-4F6F-BEBD-7D1E0BC7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ABD8-4FA4-4B92-A827-A7EA5D5D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E257B-DE0F-400C-A0B5-6CC2EF5C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E4DA5-65F6-45EC-8DD9-FF3061D7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B12EB-49EB-42DA-BF8A-072808FB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01F26-1606-401C-8F2B-617EE0BA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72AD3-FF07-4590-85C0-45B77D3A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B8793-4F10-439F-BB6E-27C730C67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CBF8F-D383-4F61-985B-EDAE960C7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0F222-18ED-4B49-AB67-E27BFD4F4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7D247-E511-4904-8EE2-0319A616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A3168-7149-4340-A89B-898A976E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372E-3D16-427F-AF1F-3F5811FF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5B8B5-F9DF-41D3-B995-CF285F81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BA6C3-1E3D-4F14-A9B4-DDAD2AF6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97CEC-0DFF-44F8-8F6D-091C80CF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71704-3DE0-48FF-96C1-7EAB9604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8BFC9-FC9D-4E98-AF53-0291A2C8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0E13C-8165-4729-86C3-01FC8DF1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7B2F0-71E8-4085-85E1-7A4C9787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A83A4-B2B5-4B89-82A3-17B43BFDF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820B2-77BF-4F3E-AB64-7B96DB01F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EEFBB-9BE1-4A64-BCC7-C3F803A7C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3122-6DB8-4F9C-990A-EBA98E31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E2367-E12B-43CB-B569-EDCD9B5A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5EA5B-A299-4027-AF8C-277D09C5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53BEF-8CE4-4167-A717-6DC27155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C6A7D-1DC0-4072-928A-5FB0A22E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CDF43-6C6D-41B4-A23D-3A9D3CC1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3CBF8-7B8F-49A7-B268-687735F3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8405B-FED9-4C68-AAE5-D21538C9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15471-A543-49DA-AB47-6F012214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1DFD1-0DA2-4B23-B179-D5696EF7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F7CDA-2855-4B64-8401-644C0392A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6B3C-C18D-4A72-8428-F18C5821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B63D1-3B91-4A9C-BA19-5BB412F63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E0563-1E29-4647-B306-3AFAD51B3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C44A6-62DD-46AD-A899-DB619D97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29466-E43F-4E5C-A58F-1CE725B0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3CB86-0A70-40FC-8E60-F65E08EE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EBB34-B023-414C-B033-0C18058C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39660-7E27-4DFA-B8F5-63A222C4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EC0F2-E02B-458D-A241-4307E368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C183F-61F9-4F86-B3A4-BC416DA7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3FBC4-3D39-44E8-9157-A66D83BD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FCA0-F4E8-436C-96DE-9FC780A2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035C6-B813-4367-9364-70CE8C43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CFFF0-EF79-49E7-AE09-AA4459C05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A4539-B23D-4F18-BA3C-473A32533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D80C-9E2A-4210-8BF9-CDC7C6D1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5B81-CB5A-4220-817D-2EAD46FC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1783-CFF4-41FA-9474-781EA40DFF7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0D0A-BA46-4EBA-B120-B8AA9197D9D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BF86-19FC-412F-B6F0-EA881AD3B8F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CA50-7B8F-43B7-A915-CC0B24D2DC2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7D10-F6CF-48A8-9779-2AFADB2B5C5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29D7-BE7E-4E50-9A3C-0EE870DD058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20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5151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9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8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21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7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0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2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2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22,69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1,25 млн.руб. (местный бюджет – 177,78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63,4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3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5,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29,3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31,0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31920" y="1938240"/>
            <a:ext cx="72896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833800"/>
        </p:xfrm>
        <a:graphic>
          <a:graphicData uri="http://schemas.openxmlformats.org/drawingml/2006/table">
            <a:tbl>
              <a:tblPr/>
              <a:tblGrid>
                <a:gridCol w="2895480"/>
                <a:gridCol w="1152720"/>
                <a:gridCol w="115236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 от оказания платных услуг и компенсация затрат государств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808,6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18,85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7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1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8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9:15Z</dcterms:modified>
  <cp:revision>258</cp:revision>
  <dc:subject/>
  <dc:title>Структура собственных доходов на 2016 год бюджета Дальнереченского городского округа</dc:title>
</cp:coreProperties>
</file>